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AC30-5BC7-4B78-B14E-1996D9F8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AF1-F961-47C0-AEE9-17A80BD9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B42-D1B0-4514-A7BF-E64154A1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BDF-CEAD-449A-900B-05CCA025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7143-585F-4419-83F4-2F85A33A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07E-5E6C-4EE0-BA4C-F0D143F7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8B0-FF1B-44FE-874C-D0FE3FDD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FC6-DF65-4118-8840-AB60CF4A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EA5C-79AC-4D54-B5CB-E5F790C6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F23-7056-48A3-BEF3-B118BFEE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40C2-2959-4CF7-98F9-EF437034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A9C-8B66-4F7D-855C-A5C92130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B3E4-A10C-4565-923D-256A86662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438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320" y="0"/>
            <a:ext cx="487656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extile"/>
              </a:rPr>
              <a:t>pH Sca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ment of the concentration of hydrogen 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ci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 concentration of [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or hydronium 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conc. of 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 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.k.a. hydroxide 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[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0040" y="571500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pH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= -log [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 Black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960800" y="82440"/>
            <a:ext cx="4178520" cy="6693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200400" y="3657600"/>
            <a:ext cx="1549440" cy="1193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819520" y="4952880"/>
            <a:ext cx="21463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3520" y="2311560"/>
            <a:ext cx="4965480" cy="370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736560" cy="406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572000" y="3200400"/>
            <a:ext cx="990720" cy="406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19920" y="2727360"/>
            <a:ext cx="253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Oxygen shares its two unpaired electrons with two hydrogen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9080" y="250920"/>
            <a:ext cx="885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extile"/>
              </a:rPr>
              <a:t>Water’s Molecular Structur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6146640" cy="4381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62360" y="5272200"/>
            <a:ext cx="646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lectronega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ndency for an atom to attract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-76320"/>
            <a:ext cx="9144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80"/>
                </a:solidFill>
                <a:latin typeface="Marker Felt"/>
              </a:rPr>
              <a:t>Solubil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charges attract it to other polar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gars, ionic compounds (like salt), and some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 attracted to nonpolar substances like lipids (fa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819520" y="2819520"/>
            <a:ext cx="3047760" cy="3809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23920" y="6643800"/>
            <a:ext cx="424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Grande"/>
              </a:rPr>
              <a:t>http://www.questacon.edu.au/html/squad_activities/assets/images/oil-and-water.j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5333760" cy="3740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73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extile"/>
              </a:rPr>
              <a:t>Hydrogen Bon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28520" y="609480"/>
            <a:ext cx="621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, polar covalent bo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 rapidly and break rapi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59092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tween water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71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-Bonding explains unique properties: cohesion, adhesion, high heat capacity, evaporative cooling, the low density of ice, the ability of water to dissolve many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2120" y="1903320"/>
            <a:ext cx="7162560" cy="4954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42320" y="6400800"/>
            <a:ext cx="308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Grande"/>
              </a:rPr>
              <a:t>http://www.realeyz.com/photo/macro/photos/leaf_drops.j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8560" y="31680"/>
            <a:ext cx="8856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Marker Felt"/>
              </a:rPr>
              <a:t>Cohe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cules of the same substance are attracted to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ds to surface tension and water dro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Marker Felt"/>
              </a:rPr>
              <a:t>Adhe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action between molecules of different sub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: glass and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3962520" cy="3195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79480" y="6643800"/>
            <a:ext cx="222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Grande"/>
              </a:rPr>
              <a:t>http://staff.um.edu.mt/rlib1/sm/wpe32.j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6440" y="4343400"/>
            <a:ext cx="870264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Marker Felt"/>
              </a:rPr>
              <a:t>Capillar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action that causes the surface of the liquid to rise when in contact with a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425600"/>
            <a:ext cx="61722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Marker Felt"/>
              </a:rPr>
              <a:t>Cohesion-Adhesion Theo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As water evaporates from leaves, it tugs on the water molecules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Cohesion and adhesion pull water up and replace missing water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Water enters the roots by osm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58240" y="6643800"/>
            <a:ext cx="278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Grande"/>
              </a:rPr>
              <a:t>www.emc.maricopa.edu/.../BioBookPLANTHORM.htm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307200" y="228600"/>
            <a:ext cx="2743200" cy="2171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307200" y="2590920"/>
            <a:ext cx="2743200" cy="1930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307200" y="4800600"/>
            <a:ext cx="2743200" cy="1892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d you ever wonder:  How does water move from roots to leaves when a tree doesn’t have a heart to pump the wa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41360" y="6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80880"/>
            <a:ext cx="4800600" cy="64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Marker Felt"/>
              </a:rPr>
              <a:t>Denisty of 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solids are more dense than their liq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This makes solids s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ce is less dense than liquid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Due to H-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Important to life because bodies of water freeze top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Allows life to survive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19680" y="304920"/>
            <a:ext cx="4324320" cy="5854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554080" y="6324480"/>
            <a:ext cx="270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Grande"/>
              </a:rPr>
              <a:t>http://shiftingbaselines.org/blog/images/Iceberg.j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8:15:26Z</dcterms:created>
  <dc:creator>Tech Support</dc:creator>
  <dc:description/>
  <dc:language>en-US</dc:language>
  <cp:lastModifiedBy>Tech Support</cp:lastModifiedBy>
  <dcterms:modified xsi:type="dcterms:W3CDTF">2006-11-13T21:18:45Z</dcterms:modified>
  <cp:revision>13</cp:revision>
  <dc:subject/>
  <dc:title>PowerPoint Presentation</dc:title>
</cp:coreProperties>
</file>